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AAC0-746B-4DB6-958C-5B17EB7D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7C5-D450-47A3-B29B-0D253E8A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6AD-1468-4C61-A4F1-9B05CF78C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1DF-DC78-4085-ACA6-24B61E13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096D-8895-4FEF-8693-A161FB6B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1FC-16BE-4088-94EC-FFA5E7BE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B29-743B-4E53-A086-C9FFA440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939C-E176-4F45-B5A9-52B9A671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ADC-1AFF-470D-A3F8-5272685E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371-FF0B-4011-A7FF-92A8AFE2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DC3-A7D1-484A-A66F-06820E7D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D284-0504-4CB6-8A17-8266208E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7EDE-AD8D-48D6-B174-02544A6C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B10C-9F7E-4230-BD8E-FD1F8A5D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5FD-3161-442B-AA9C-8710EB29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838B-52E7-4ECB-A565-BD9B01E3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2C6-144C-4ED8-9B5A-0897172A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CDB-4438-40C0-B29C-AE908D32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E78-7184-42DB-A55B-68BF0349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BCF-B976-42AB-81B9-7C14E8D7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D27-33BC-45C8-858C-813441EF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C2D-2D28-498D-918F-C0ACB2562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82F-7394-406D-9283-1273CF3D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7D6-CD8E-4E5B-A5BD-1B3BC353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6C5-7AA4-4437-97ED-028549C5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727D-3651-4116-9D25-C9F80290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093-846A-4D23-BBAD-AA0F9DE4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FB3-85F8-457A-89B5-9606D90A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C12-E7A2-450E-BA6F-69150ABA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48EF-8F13-4D4A-AAC7-5A83B538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984-0A9C-41B4-84DF-335BE01B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29F-027E-4BFF-9944-3E1799216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7367-5878-47FC-B7C7-4264E41E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911-A2BA-4BFF-97DE-624F7CD5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18F-31DC-40AD-97C0-1D1144C0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44B1-EF0B-455D-8ED9-4CD67D9D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3E2-F68F-4A9D-B9F3-B47477D3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59-4176-4CCE-8C07-A4D3430F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9B8-B2CC-4232-9C27-CADB1B7C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081-14B7-458A-B4E6-76D7ADE3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F71-391E-485B-89AC-AF938F0E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67E-2EF8-436F-95C5-406C652B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AEEA-933B-4D2C-8A17-AD6ADB4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69A-B2D7-4094-80CC-B5EE516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D8D-71AF-4BEC-BC21-AF55C31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C79-8870-4171-9541-614E545F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C15-33DA-4FA8-B92B-73D51918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4841-FED3-4F96-9C0B-ECA2D14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F98-8D6F-432D-8E1F-A359B61B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ADF7-8D17-4BBD-8641-ACE50BB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2E3-8458-4824-90C2-B4DF8CB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E21-7092-4BFB-A20D-470FE020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1FD4-DEB8-4B19-86B0-A171D74B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71F2-2835-4FF2-B867-9C3E1E0B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417-36BE-4EF3-91B3-BF9CED62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551-698A-45BB-8721-58C93AD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7E7-A759-473F-B99C-C5FFE04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94C-6AD7-4257-AB44-705FCA3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A30-6BE6-43C7-95F2-09F1BC01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96A-CBCE-41F2-B5CF-86CB0D7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5A6-8965-4923-9280-9ADFA8A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795-47F9-404E-8F61-9C4131937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9AF-1E5A-45BB-8FFD-04847DD10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6517f04c"/>
          <p:cNvPicPr/>
          <p:nvPr/>
        </p:nvPicPr>
        <p:blipFill>
          <a:blip r:embed="rId3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396120" y="6400800"/>
            <a:ext cx="27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23920" y="228600"/>
            <a:ext cx="1376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ffects of clearcutting on forest chemical cyc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F13_13"/>
          <p:cNvPicPr/>
          <p:nvPr/>
        </p:nvPicPr>
        <p:blipFill>
          <a:blip r:embed="rId1"/>
          <a:stretch/>
        </p:blipFill>
        <p:spPr>
          <a:xfrm>
            <a:off x="1486080" y="0"/>
            <a:ext cx="7657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6095880" y="1523880"/>
            <a:ext cx="990720" cy="1524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7162920" y="6583320"/>
            <a:ext cx="25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90720" y="411120"/>
            <a:ext cx="16002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Park shapes and island bioge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F13_14"/>
          <p:cNvPicPr/>
          <p:nvPr/>
        </p:nvPicPr>
        <p:blipFill>
          <a:blip r:embed="rId1"/>
          <a:stretch/>
        </p:blipFill>
        <p:spPr>
          <a:xfrm>
            <a:off x="2666880" y="304920"/>
            <a:ext cx="601992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276720" y="9144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ood – large area protects many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095880" y="1447920"/>
            <a:ext cx="99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mall areas but over more than one area can be better insur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242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est – wildlife corridors connec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553080" y="633888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895480" y="53352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world’s major fish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F14_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0" y="5562720"/>
            <a:ext cx="3352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upwelling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Yellow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moder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Graph representing Trend in median age-at-maturity for Atlantic cod in Lofoton,&#13;&#10;Norway."/>
          <p:cNvPicPr/>
          <p:nvPr/>
        </p:nvPicPr>
        <p:blipFill>
          <a:blip r:embed="rId1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landfill"/>
          <p:cNvPicPr/>
          <p:nvPr/>
        </p:nvPicPr>
        <p:blipFill>
          <a:blip r:embed="rId1"/>
          <a:stretch/>
        </p:blipFill>
        <p:spPr>
          <a:xfrm>
            <a:off x="3352680" y="1371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Man in Kenaf field"/>
          <p:cNvPicPr/>
          <p:nvPr/>
        </p:nvPicPr>
        <p:blipFill>
          <a:blip r:embed="rId1"/>
          <a:stretch/>
        </p:blipFill>
        <p:spPr>
          <a:xfrm>
            <a:off x="5486400" y="1828800"/>
            <a:ext cx="3286080" cy="407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80880" y="1600200"/>
            <a:ext cx="487692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oldtractor"/>
          <p:cNvPicPr/>
          <p:nvPr/>
        </p:nvPicPr>
        <p:blipFill>
          <a:blip r:embed="rId1"/>
          <a:stretch/>
        </p:blipFill>
        <p:spPr>
          <a:xfrm>
            <a:off x="5715000" y="2057400"/>
            <a:ext cx="309564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63868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world’s most versatile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1143000"/>
            <a:ext cx="4952880" cy="541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emp20"/>
          <p:cNvPicPr/>
          <p:nvPr/>
        </p:nvPicPr>
        <p:blipFill>
          <a:blip r:embed="rId1"/>
          <a:stretch/>
        </p:blipFill>
        <p:spPr>
          <a:xfrm>
            <a:off x="762120" y="304920"/>
            <a:ext cx="2819160" cy="30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atériaux de construction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2936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838080" y="3505320"/>
            <a:ext cx="77724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094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d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Down from 10% (1990) to 5% to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(consumer apat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Not easily mark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recycled paper"/>
          <p:cNvPicPr/>
          <p:nvPr/>
        </p:nvPicPr>
        <p:blipFill>
          <a:blip r:embed="rId1"/>
          <a:stretch/>
        </p:blipFill>
        <p:spPr>
          <a:xfrm>
            <a:off x="6324480" y="4114800"/>
            <a:ext cx="1895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infosys</cp:lastModifiedBy>
  <dcterms:modified xsi:type="dcterms:W3CDTF">2013-12-03T16:42:27Z</dcterms:modified>
  <cp:revision>72</cp:revision>
  <dc:subject/>
  <dc:title>Chapter 13  Landscapes and Seascapes</dc:title>
</cp:coreProperties>
</file>